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CEA-7DD7-45BE-B1A4-48328F43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942-334C-4E7D-8B01-6000AD94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4DD-C844-4490-8D3F-E3D17BB7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276-BC47-4998-B7B9-D541DB97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F00-59C6-47EA-8930-E43FE8FA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5FD-6653-4334-90AB-B1D6051F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390-7365-45B2-92E9-0F386C1A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D22-68FD-4A7D-A381-8F4C0DBF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7DC-316C-4407-A822-35385932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80C-8FE5-4E3C-8913-BA74660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14C-A5A8-4EF1-A92C-2C664F9E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D6D-AD99-4B6D-A460-F19663DA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A07A-A9DE-4099-8589-AA2C926EF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943696/student_view0/chapter10/animation__second_messenger__camp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web/cgi/pluginpop.cgi?it=swf::535::535::/sites/dl/free/0072437316/120109/bio46.swf::Mechanism%20of%20Steroid%20Hormone%20Actio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the Endocrin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Hormone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schoolworkhelper.net/2010/07/the-endocrine-system-function-and-structure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protein horm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943696/student_view0/chapter10/animation__second_messenger__camp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ster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79800" y="1981080"/>
            <a:ext cx="4784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previous slide from: http://www.bing.com/health/article/mayo-126596/PraderWilli-syndrome?q=prader-willi+syndrome&amp;qpvt=prader+willi+syndr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es hormones that control other endocrine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and stores hormones, and is under the nervous control of the 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ualberta.ca/~somji/pituitary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30400" y="1981080"/>
            <a:ext cx="508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er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s and releases hormones produced by the hypothalamus (ADH and oxytoc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er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s and stores and releases hormones (growth hormone, TSH, ACTH, prolactin, MSH, FSH and L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easing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the release of hormones from the anterior pitu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pam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hibits secretion of prolac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ostat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secretion of somatotropin (growth horm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regulators produced by cells in one part of the body that affect cells in another part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ocrine 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ecreted by endocrine glands directly into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scienceblogs.com/clock/2006/06/bio101_lecture_6_physiology_re.p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1760" y="609480"/>
            <a:ext cx="366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vs. 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ystems integrate and control organs and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system helps body to adj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c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system maintains control ov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nger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target hormo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 many cells throughout the body, e.g., growth hor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rget 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 specific cells or tissues, e.g., 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id vs. Protein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 in their chemical structure and thei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oid hormones are made from cholesterol, e.g., testosterone, e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hormones have chains of amino acids and are water-soluble, e.g.,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id Hormone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nekaeportfolio.blogspot.com/2011/02/identifying-classes-of-hormones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steroid hormone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olcweb/cgi/pluginpop.cgi?it=swf::535::535::/sites/dl/free/0072437316/120109/bio46.swf::Mechanism%20of%20Steroid%20Hormone%20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0:21:50Z</dcterms:created>
  <dc:creator>rubina khan</dc:creator>
  <dc:description/>
  <dc:language>en-US</dc:language>
  <cp:lastModifiedBy>rubina khan</cp:lastModifiedBy>
  <dcterms:modified xsi:type="dcterms:W3CDTF">2011-12-12T22:41:37Z</dcterms:modified>
  <cp:revision>32</cp:revision>
  <dc:subject/>
  <dc:title>Importance of the Endocrine System</dc:title>
</cp:coreProperties>
</file>